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1744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Pro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1744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8488-2C3D-43AE-AC95-BE30E72EA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C128-8CB6-4432-A65E-917F3697D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78CC-2BB9-4573-8E6E-FCB5CC23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671C-5FB3-458B-BBC4-48DC6F9A7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981B-1A4A-4656-998C-A4669BC3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4DA5-2CED-41E0-A3D2-7348D0FF7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44CC-9FDC-4E5D-84AC-54FAA3C90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8E7E-0FB8-4208-B064-A7D67E00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069E-969F-4AF3-961F-02A3553D8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A22A-DD79-446C-9AF4-402645263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FFB5-2E99-43AC-93FF-05FFB75D2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3A6D-B010-471E-96FB-FEEBD7866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31F3-ED2F-446D-BAAA-8AC8B4077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DD7B-A634-4C8C-A55A-8BFBD0D0E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915C-B01C-4B76-A0BE-092E50F7D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2871-CA47-49B4-8375-D3F6D1219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7CCD-311F-4A70-8387-48B62984D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4D6C-EB45-4174-AF2D-79B1B4A56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AEC4-7B8D-4B3B-A6E7-04AC1456E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8C72-EF43-4ACB-B006-390D99410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highlight that this slide refers to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rench, Ger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panish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that Chinese, Japanese and other GCSEs will follow on one year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4484-FB74-4D4A-89F6-D92B488F3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A4EB-95D8-4635-8A58-44D6B19A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0CCA-B026-4F51-B61D-7F29489CC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1780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4C0B-6AD5-4882-9F31-002E0EEEC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152360" y="900000"/>
            <a:ext cx="71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d7d6b"/>
                </a:solidFill>
                <a:latin typeface="Verdana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" descr="U273 Origami MFL PPT_slide.jpg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1152360" y="900000"/>
            <a:ext cx="71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d7d6b"/>
                </a:solidFill>
                <a:latin typeface="Verdana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" descr="U273 Origami MFL PPT_slide.jpg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912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U273 Origami MFL PPT_slide2.jpg"/>
          <p:cNvPicPr/>
          <p:nvPr/>
        </p:nvPicPr>
        <p:blipFill>
          <a:blip r:embed="rId3"/>
          <a:stretch/>
        </p:blipFill>
        <p:spPr>
          <a:xfrm>
            <a:off x="0" y="-27000"/>
            <a:ext cx="9180360" cy="6912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Myriad Pr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Myriad Pro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Myriad Pr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yriad 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Myriad Pro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TeachingLanguages@pearson.com" TargetMode="External"/><Relationship Id="rId2" Type="http://schemas.openxmlformats.org/officeDocument/2006/relationships/hyperlink" Target="https://twitter.com/PearsonMFLquals" TargetMode="External"/><Relationship Id="rId3" Type="http://schemas.openxmlformats.org/officeDocument/2006/relationships/hyperlink" Target="http://qualifications.pearson.com/en/forms/subject-advisor-updates-for-teachers-and-tutors.html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7777080" cy="13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Japan Conference for Schools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March 2016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983880"/>
            <a:ext cx="712800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       </a:t>
            </a: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Five main themes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20720" y="1800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dentity and culture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ocal area, holiday, travel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ture aspirations, study and work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national and global dimension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105" name="Picture 2" descr="N:\Prod Mgr\General Quals\1E. Art\Art - GCE Redevelop 2015\Marketing\Subject to Accreditation Stamp (Red).JPG"/>
          <p:cNvPicPr/>
          <p:nvPr/>
        </p:nvPicPr>
        <p:blipFill>
          <a:blip r:embed="rId1"/>
          <a:srcRect l="7960" t="20296" r="8302" b="19791"/>
          <a:stretch/>
        </p:blipFill>
        <p:spPr>
          <a:xfrm>
            <a:off x="7885080" y="620640"/>
            <a:ext cx="998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2360" y="89964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204561"/>
                </a:solidFill>
                <a:latin typeface="Verdana"/>
              </a:rPr>
              <a:t>Identity and culture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20720" y="2276640"/>
            <a:ext cx="7772400" cy="38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ho am I?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relationships; when I was younger; what my friends and family are like; what makes a good friend; interests; socialising with friends and family; role model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aily lif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customs and everyday life; food and drink; shopping; social media and technology (use of, advantages and disadvantages)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ultural lif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celebrations and festivals; reading; music; sport; film and television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108" name="Picture 2" descr="N:\Prod Mgr\General Quals\1E. Art\Art - GCE Redevelop 2015\Marketing\Subject to Accreditation Stamp (Red).JPG"/>
          <p:cNvPicPr/>
          <p:nvPr/>
        </p:nvPicPr>
        <p:blipFill>
          <a:blip r:embed="rId1"/>
          <a:srcRect l="7960" t="20296" r="8302" b="19791"/>
          <a:stretch/>
        </p:blipFill>
        <p:spPr>
          <a:xfrm>
            <a:off x="7885080" y="620640"/>
            <a:ext cx="998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1557000"/>
            <a:ext cx="7128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204561"/>
                </a:solidFill>
                <a:latin typeface="Verdana"/>
              </a:rPr>
              <a:t>Local area, holiday and travel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20720" y="2852640"/>
            <a:ext cx="7772400" cy="32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Holiday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preferences, experiences and destination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ravel and tourist transaction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travel and accommodation; asking for help and dealing with problems; directions; eating out; shopping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own, region and countr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weather; places to see; things to do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111" name="Picture 2" descr="N:\Prod Mgr\General Quals\1E. Art\Art - GCE Redevelop 2015\Marketing\Subject to Accreditation Stamp (Red).JPG"/>
          <p:cNvPicPr/>
          <p:nvPr/>
        </p:nvPicPr>
        <p:blipFill>
          <a:blip r:embed="rId1"/>
          <a:srcRect l="7960" t="20296" r="8302" b="19791"/>
          <a:stretch/>
        </p:blipFill>
        <p:spPr>
          <a:xfrm>
            <a:off x="7885080" y="620640"/>
            <a:ext cx="998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2360" y="134100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204561"/>
                </a:solidFill>
                <a:latin typeface="Verdana"/>
              </a:rPr>
              <a:t>School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0720" y="2204640"/>
            <a:ext cx="77724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hat school is lik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chool types; school day; subjects; rules and pressures; celebrating succes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chool activitie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chool trips, events and exchange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114" name="Picture 2" descr="N:\Prod Mgr\General Quals\1E. Art\Art - GCE Redevelop 2015\Marketing\Subject to Accreditation Stamp (Red).JPG"/>
          <p:cNvPicPr/>
          <p:nvPr/>
        </p:nvPicPr>
        <p:blipFill>
          <a:blip r:embed="rId1"/>
          <a:srcRect l="7960" t="20296" r="8302" b="19791"/>
          <a:stretch/>
        </p:blipFill>
        <p:spPr>
          <a:xfrm>
            <a:off x="7885080" y="620640"/>
            <a:ext cx="998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2360" y="1341000"/>
            <a:ext cx="712800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204561"/>
                </a:solidFill>
                <a:latin typeface="Verdana"/>
              </a:rPr>
              <a:t>Future aspirations, study and work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20720" y="2565360"/>
            <a:ext cx="77724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Using languages beyond the classroom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forming relationships; travel; employment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mbition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further study; volunteering; training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ork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jobs, careers and profession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117" name="Picture 2" descr="N:\Prod Mgr\General Quals\1E. Art\Art - GCE Redevelop 2015\Marketing\Subject to Accreditation Stamp (Red).JPG"/>
          <p:cNvPicPr/>
          <p:nvPr/>
        </p:nvPicPr>
        <p:blipFill>
          <a:blip r:embed="rId1"/>
          <a:srcRect l="7960" t="20296" r="8302" b="19791"/>
          <a:stretch/>
        </p:blipFill>
        <p:spPr>
          <a:xfrm>
            <a:off x="7885080" y="620640"/>
            <a:ext cx="998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1989000"/>
            <a:ext cx="8281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204561"/>
                </a:solidFill>
                <a:latin typeface="Verdana"/>
              </a:rPr>
              <a:t>International and global dimensio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9640" y="2852280"/>
            <a:ext cx="791712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inging the world togethe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ports events; music events; campaigns and good cause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vironmental issue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being ‘green’; access to natural resource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120" name="Picture 2" descr="N:\Prod Mgr\General Quals\1E. Art\Art - GCE Redevelop 2015\Marketing\Subject to Accreditation Stamp (Red).JPG"/>
          <p:cNvPicPr/>
          <p:nvPr/>
        </p:nvPicPr>
        <p:blipFill>
          <a:blip r:embed="rId1"/>
          <a:srcRect l="7960" t="20296" r="8302" b="19791"/>
          <a:stretch/>
        </p:blipFill>
        <p:spPr>
          <a:xfrm>
            <a:off x="7885080" y="620640"/>
            <a:ext cx="998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2360" y="89964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Listening and understandi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36480" y="1622520"/>
          <a:ext cx="7772400" cy="4332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Myriad Pro"/>
                        </a:rPr>
                        <a:t>Fou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35 minutes incl 5 mins reading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45 minutes incl 5 mins’ reading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Multiple-response questions and open 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Multiple-response questions and open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22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2 questions in TL but no written response required as MC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2 questions in TL but no written response required as MC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22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There will be four questions common to the Higher ti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There will be four questions common to the Foundation ti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7885080" y="611280"/>
            <a:ext cx="10000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2360" y="89964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peaking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628640"/>
          <a:ext cx="8632800" cy="4614840"/>
        </p:xfrm>
        <a:graphic>
          <a:graphicData uri="http://schemas.openxmlformats.org/drawingml/2006/table">
            <a:tbl>
              <a:tblPr/>
              <a:tblGrid>
                <a:gridCol w="4316400"/>
                <a:gridCol w="4316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Myriad Pro"/>
                        </a:rPr>
                        <a:t>Fou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7-9 minutes +12 mins supervised  prep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10-12 mins + 12 mins supervised prep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Notes are allowed in the examination room from the prep times but candidates should not read from th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Notes are allowed in the examination room from the prep times but candidates should not read from the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No dictiona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No dictiona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Role play based on one 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Role play based on one 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Questions based on a picture stimulus based on one topic. This is selected by Pears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Questions based on a picture stimulus based on one topic. This is selected by Pears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5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Conversation based on two themes. The first theme is based on the topic chosen by the student in advance of the assessment. The second theme is selected by Pears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Conversation based on two themes. The first theme is based on the topic chosen by the student in advance of the assessment. The second theme is selected by Pears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6" name="Picture 2" descr="N:\Prod Mgr\General Quals\1E. Art\Art - GCE Redevelop 2015\Marketing\Subject to Accreditation Stamp (Red).JPG"/>
          <p:cNvPicPr/>
          <p:nvPr/>
        </p:nvPicPr>
        <p:blipFill>
          <a:blip r:embed="rId1"/>
          <a:srcRect l="7960" t="20296" r="8302" b="19791"/>
          <a:stretch/>
        </p:blipFill>
        <p:spPr>
          <a:xfrm>
            <a:off x="7885080" y="620640"/>
            <a:ext cx="998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360" y="89964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Mark schemes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41300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- Role pla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communication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- Picture based discuss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unication and content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nguistic knowledge and accuracy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- Conversa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unication and content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nguistic knowledge and accuracy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action and Spontaneity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129" name="Picture 2" descr="N:\Prod Mgr\General Quals\1E. Art\Art - GCE Redevelop 2015\Marketing\Subject to Accreditation Stamp (Red).JPG"/>
          <p:cNvPicPr/>
          <p:nvPr/>
        </p:nvPicPr>
        <p:blipFill>
          <a:blip r:embed="rId1"/>
          <a:srcRect l="7960" t="20296" r="8302" b="19791"/>
          <a:stretch/>
        </p:blipFill>
        <p:spPr>
          <a:xfrm>
            <a:off x="7885080" y="620640"/>
            <a:ext cx="998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3280" y="691920"/>
            <a:ext cx="712944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Reading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95280" y="1554120"/>
          <a:ext cx="8569440" cy="427212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Myriad Pro"/>
                        </a:rPr>
                        <a:t>Foun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Hig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The assessment is 45 minutes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The assessment is 1 h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A variety of multiple response and short-answer open response ques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A variety of multiple response and short-answer open response ques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3 questions in the T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3 questions will be set in TL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1 short passage from the TL to Engl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1 short passage from the TL to Engl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2 questions based on literary tex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2 questions based on literary tex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There will be four questions common to the Higher ti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There will be four questions common to the Foundation ti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2" descr="N:\Prod Mgr\General Quals\1E. Art\Art - GCE Redevelop 2015\Marketing\Subject to Accreditation Stamp (Red).JPG"/>
          <p:cNvPicPr/>
          <p:nvPr/>
        </p:nvPicPr>
        <p:blipFill>
          <a:blip r:embed="rId1"/>
          <a:srcRect l="7960" t="20296" r="8302" b="19791"/>
          <a:stretch/>
        </p:blipFill>
        <p:spPr>
          <a:xfrm>
            <a:off x="8145360" y="619200"/>
            <a:ext cx="998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2360" y="1052640"/>
            <a:ext cx="730728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GCSE 2016: 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5280" y="1700280"/>
            <a:ext cx="7993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An overview of new Edexcel GCSE 2016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Qualifications for French, German &amp; Spanish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89964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Writing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4280" y="1484280"/>
          <a:ext cx="8569440" cy="4756320"/>
        </p:xfrm>
        <a:graphic>
          <a:graphicData uri="http://schemas.openxmlformats.org/drawingml/2006/table">
            <a:tbl>
              <a:tblPr/>
              <a:tblGrid>
                <a:gridCol w="4092480"/>
                <a:gridCol w="44769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Myriad Pro"/>
                        </a:rPr>
                        <a:t>Foun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Hig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1 h 10 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1 hour 20 m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33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Assessment consists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one translation 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three open response ques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Assessment consists of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one translation 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70c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two open response ques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9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For one open response question, students choose one of two writing tasks. This question is common to the Higher tie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For each of the two open response questions, students choose one of two writing tasks. One of these questions is common to the Foundation ti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The length of each open response required and complexity of language increases across the pap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Students must produce open responses of extended length following written stimuli provi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Students will be required to translate five sentences from English to TL .They will be ordered by increasing level of difficul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70c0"/>
                          </a:solidFill>
                          <a:latin typeface="Arial"/>
                          <a:ea typeface="Myriad Pro"/>
                        </a:rPr>
                        <a:t>Students will be required to translate a short paragraph from English to TL. The individual sentences will be ordered by increasing level of difficul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35" name="Picture 2" descr="N:\Prod Mgr\General Quals\1E. Art\Art - GCE Redevelop 2015\Marketing\Subject to Accreditation Stamp (Red).JPG"/>
          <p:cNvPicPr/>
          <p:nvPr/>
        </p:nvPicPr>
        <p:blipFill>
          <a:blip r:embed="rId1"/>
          <a:srcRect l="7960" t="20296" r="8302" b="19791"/>
          <a:stretch/>
        </p:blipFill>
        <p:spPr>
          <a:xfrm>
            <a:off x="7885080" y="620640"/>
            <a:ext cx="998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2360" y="89964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Planning: impact on KS3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20720" y="1800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CSE develops on skills introduced in the new NC including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 using authentic texts including literature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2360" y="89964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Support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20720" y="1800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rse planner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me of work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ing chart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ting Started guide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2360" y="89964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Contact details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20720" y="1800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istair Drewery, Subject Advisor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K: 0844 576 0035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l: +44 (0) 207 010 2187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TeachingLanguages@pearson.co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witter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@PearsonMFLqual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Sign up today to receive Subject Advisor email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2360" y="89964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GCSE Reforms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0720" y="1800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dated content and assessment requirements from DfE and Ofqual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lly linear structure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9-1 grading scale, with 9 the top level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ering only in certain subjects such as MFL and Math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rnal examinations only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hange to guided learning hours 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89964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9-1 Grading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92" name="Picture 7" descr="https://pbs.twimg.com/media/BxVADtjIUAECS3u.jpg:large"/>
          <p:cNvPicPr/>
          <p:nvPr/>
        </p:nvPicPr>
        <p:blipFill>
          <a:blip r:embed="rId1"/>
          <a:srcRect l="3481" t="26574" r="2984" b="738"/>
          <a:stretch/>
        </p:blipFill>
        <p:spPr>
          <a:xfrm>
            <a:off x="1116000" y="1557360"/>
            <a:ext cx="6772320" cy="35449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971640" y="4780080"/>
            <a:ext cx="748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roadly the same proportion of students will achieve 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de 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above as currently achieve 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de C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abo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roadly the same proportion of students will achieve 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de 7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above as currently achieve an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abo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ottom of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de 1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be aligned with the bottom of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de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2360" y="89964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61"/>
                </a:solidFill>
                <a:latin typeface="Verdana"/>
              </a:rPr>
              <a:t>Timeline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55640" y="1557360"/>
          <a:ext cx="7772400" cy="302256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Myriad Pro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Myriad Pro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Myriad Pro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Myriad Pro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Current 2012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Myriad Pro"/>
                        </a:rPr>
                        <a:t>Summer series as 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Myriad Pro"/>
                        </a:rPr>
                        <a:t>Summer series as 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Myriad Pro"/>
                        </a:rPr>
                        <a:t>Final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yriad Pro"/>
                        </a:rPr>
                        <a:t>New 2016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yriad Pro"/>
                        </a:rPr>
                        <a:t>First teaching of three-year GC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Myriad Pro"/>
                        </a:rPr>
                        <a:t>First teaching of two-year GC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Myriad Pro"/>
                        </a:rPr>
                        <a:t>First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96" name="TextBox 8"/>
          <p:cNvSpPr/>
          <p:nvPr/>
        </p:nvSpPr>
        <p:spPr>
          <a:xfrm>
            <a:off x="792000" y="458136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st available assessment for the current GCSEs will be Jun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formed GCSEs will be reported in the 2018 performanc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2360" y="89964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Key changes from 2016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20720" y="1800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0% external assessment – all exam papers will be set and marked by the Awarding Organisation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5% assessment weightings per skill (listening, speaking, reading and writing).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ered papers but no mixed tier entry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ort translations from and into the target language. 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ome target language questions in the reading and listening paper.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hentic stimuli in the reading, including literary texts. 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lsory topics linked to: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dentity and cultur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Local, national, international and global areas of inter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 and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urrent and future study and employ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836280"/>
            <a:ext cx="774072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Languages for All: Our approach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55280" y="1557360"/>
            <a:ext cx="7777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aging and popular topic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able content: A flexible programme of study that allows time for a focused revision period at the end of the course.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ightforward and clear question papers and mark scheme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inuous progression –  a specification that builds on KS3 prior learning and provides a firm foundation for students to make a smooth transition to A level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eaking assessments that encourage and reward communication, spontaneity and interaction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pers designed to help all students progress through the assessments confidently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udent choice in the speaking and writing unit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89964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4561"/>
                </a:solidFill>
                <a:latin typeface="Verdana"/>
              </a:rPr>
              <a:t>Our research</a:t>
            </a:r>
            <a:endParaRPr b="1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0720" y="1800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earch carried out since 2012 with: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ndreds of teachers from schools across the country in face-to-face interviews, phone interviews, focus groups and survey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ialing of reading, writing and speaking papers with 7 schools and over 200 learners with diverse intake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ject advisory group, including representatives from the teaching community and universities</a:t>
            </a: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d7d6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4:46:01Z</dcterms:created>
  <dc:creator>UserName Surname</dc:creator>
  <dc:description/>
  <dc:language>en-US</dc:language>
  <cp:lastModifiedBy>Green, Emma</cp:lastModifiedBy>
  <cp:lastPrinted>2016-02-04T15:58:23Z</cp:lastPrinted>
  <dcterms:modified xsi:type="dcterms:W3CDTF">2016-02-22T10:56:39Z</dcterms:modified>
  <cp:revision>282</cp:revision>
  <dc:subject/>
  <dc:title>PowerPoint Presentation</dc:title>
</cp:coreProperties>
</file>